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8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BCD-3A8E-46CA-996E-0258AB68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72D-7F79-4205-A29F-58F1B7AE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C579-2157-4809-981E-1FC5F66A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262-14CA-4192-820B-3F360C00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68C0-D844-48A7-AB79-B7F32037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67AE-AB77-49A3-A8FC-0EB85F1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177-BDC8-4196-A872-92126071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4EDD-EA7A-4067-9E60-6A8DEDFB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70EE-7D70-49C3-BCC0-C5B6F81B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20E8-2831-49C5-ACCD-1CFC37E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793A-12BD-4C36-ABBC-08770670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895-7DB4-4ED6-AB5C-BBE4BA9E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9A37-1F5C-44B8-9F41-5E40E84A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2AE4-D054-4B58-B10E-D6BFCF50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443E-99A5-4792-8892-9C5D7451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3E0-FD15-4233-9F53-0357733C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E610-FAF2-4F32-A197-76A5E021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250-BFA4-49D8-BDCC-378C6DF8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A4F-D33F-49F7-8360-3153B379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887-5983-4628-8FAC-0DB2EAD5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244-051D-44C4-A218-BC533B18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50D-D13F-469C-B311-456F71B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728-030E-4B13-8C99-D2553C6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D17-18A2-4106-979C-4CCA3DE0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DC3A-38D9-4B4B-9ED1-61A8C4CDC6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9FBE-8BD7-4CCA-80DD-83BAA00933D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SP 3M - Unit 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stitutions –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D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800" y="5867280"/>
            <a:ext cx="88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ronto: Oxford University Pre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dustrial Revolution (</a:t>
            </a:r>
            <a:r>
              <a:rPr b="1" lang="en-US" sz="1800" spc="-1" strike="noStrike">
                <a:solidFill>
                  <a:srgbClr val="006633"/>
                </a:solidFill>
                <a:latin typeface="Garamond"/>
              </a:rPr>
              <a:t>beginning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1850s UK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ch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m power increased production 100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es Watts (1760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ntralization, specialization and mass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ttage industry (whole products) to factories (compon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y lin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only perform one specialized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ge lab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ow sell labour for wage not dependent on l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poor work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to rise of labour u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dustrial Revolution (</a:t>
            </a:r>
            <a:r>
              <a:rPr b="1" lang="en-US" sz="1800" spc="-1" strike="noStrike">
                <a:solidFill>
                  <a:srgbClr val="006633"/>
                </a:solidFill>
                <a:latin typeface="Garamond"/>
              </a:rPr>
              <a:t>beginning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 1850s UK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unite to fight for the interests of the collective – (all work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w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work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orking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tter standards of living, quality of life and international trad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pluse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 trade between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 now have more rights under industrial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labour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tical rights for citiz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22600" indent="-381240">
              <a:lnSpc>
                <a:spcPct val="90000"/>
              </a:lnSpc>
              <a:spcBef>
                <a:spcPts val="451"/>
              </a:spcBef>
              <a:buClr>
                <a:srgbClr val="00663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public sch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133720"/>
            <a:ext cx="733320" cy="1981080"/>
          </a:xfrm>
          <a:custGeom>
            <a:avLst/>
            <a:gdLst>
              <a:gd name="textAreaLeft" fmla="*/ 98280 w 733320"/>
              <a:gd name="textAreaRight" fmla="*/ 635040 w 7333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3733920" cy="2628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622680" cy="2590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14400" y="3352680"/>
            <a:ext cx="373392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029200" y="3276720"/>
            <a:ext cx="320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he Post-Industrial Economy of the Information Ag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minent Servic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 of services more important than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9, 74% of Canada’s labour force in servic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ical, teaching, health care, information processing, banking, commerce, sales and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employ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5% in natur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e, mining, gas, fishing,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692680" y="1600200"/>
          <a:ext cx="194940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2680" y="1600200"/>
                    <a:ext cx="19494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n Information Rev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51055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d by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machines (robots) reduce the need for lab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et has revolutionized the way information is shared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, communication, ban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has become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cost of a CD is to the artist, the shipping, the retail, not in the production of the CD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3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30002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 Global Econom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ods and information cross national borders with few restri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shirt was designed in Italy, made in China from cotton grown in Africa, and finished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s can be manufactured for very che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gence – merging of a variety of communication technologi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spaper, radio, television, telephone now in one medium -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ilyn Waring’s book “Who’s Counting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rn global economies don’t count unpaid work, largely done by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riticisms of the global economy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damage and human rights abuses are also not counted in the global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or working conditions of the industrial revolution have simply been shifted to other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Econom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conom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social i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organizes the production, distribution and consumption of goods and services in a socie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on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goods and services are delivered to mar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se of goods and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Economy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295280" y="1447200"/>
            <a:ext cx="7157520" cy="3655080"/>
            <a:chOff x="1295280" y="1447200"/>
            <a:chExt cx="7157520" cy="3655080"/>
          </a:xfrm>
        </p:grpSpPr>
        <p:sp>
          <p:nvSpPr>
            <p:cNvPr id="94" name=""/>
            <p:cNvSpPr/>
            <p:nvPr/>
          </p:nvSpPr>
          <p:spPr>
            <a:xfrm>
              <a:off x="1295280" y="1447200"/>
              <a:ext cx="2284200" cy="3655080"/>
            </a:xfrm>
            <a:custGeom>
              <a:avLst/>
              <a:gdLst>
                <a:gd name="textAreaLeft" fmla="*/ 111240 w 2284200"/>
                <a:gd name="textAreaRight" fmla="*/ 2172960 w 2284200"/>
                <a:gd name="textAreaTop" fmla="*/ 111240 h 3655080"/>
                <a:gd name="textAreaBottom" fmla="*/ 3543840 h 3655080"/>
              </a:gdLst>
              <a:ahLst/>
              <a:rect l="textAreaLeft" t="textAreaTop" r="textAreaRight" b="textAreaBottom"/>
              <a:pathLst>
                <a:path w="21600" h="34561">
                  <a:moveTo>
                    <a:pt x="3600" y="0"/>
                  </a:moveTo>
                  <a:arcTo wR="3600" hR="3600" stAng="16200000" swAng="-5400000"/>
                  <a:lnTo>
                    <a:pt x="0" y="30961"/>
                  </a:lnTo>
                  <a:arcTo wR="3600" hR="3600" stAng="10800000" swAng="-5400000"/>
                  <a:lnTo>
                    <a:pt x="18000" y="3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b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pital equip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tural 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3520" y="175212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duction 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0000" y="175212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oods and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625800" y="388404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u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88600" y="3884040"/>
              <a:ext cx="1522800" cy="914040"/>
            </a:xfrm>
            <a:prstGeom prst="flowChartAlternateProcess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1760" y="2208960"/>
              <a:ext cx="609120" cy="151920"/>
            </a:xfrm>
            <a:prstGeom prst="rightArrow">
              <a:avLst>
                <a:gd name="adj1" fmla="val 50000"/>
                <a:gd name="adj2" fmla="val 10023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4040" y="4188240"/>
              <a:ext cx="609120" cy="152640"/>
            </a:xfrm>
            <a:prstGeom prst="rightArrow">
              <a:avLst>
                <a:gd name="adj1" fmla="val 50000"/>
                <a:gd name="adj2" fmla="val 99764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68600" y="2208960"/>
              <a:ext cx="609120" cy="151920"/>
            </a:xfrm>
            <a:prstGeom prst="rightArrow">
              <a:avLst>
                <a:gd name="adj1" fmla="val 50000"/>
                <a:gd name="adj2" fmla="val 100237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257400">
              <a:off x="5268960" y="3188520"/>
              <a:ext cx="2568960" cy="162720"/>
            </a:xfrm>
            <a:prstGeom prst="rightArrow">
              <a:avLst>
                <a:gd name="adj1" fmla="val 50000"/>
                <a:gd name="adj2" fmla="val 394690"/>
              </a:avLst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42960" y="809640"/>
            <a:ext cx="6058080" cy="5238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371600" y="1905120"/>
            <a:ext cx="65530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rief History of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3581280" cy="2602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724280" y="3352680"/>
            <a:ext cx="35816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Hunting and Gathering Socie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madic groups of 20-50 related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on, distribution and consumption part of family li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” is what had to be done to ensure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ttle or no surplus produ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ubsistence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391200" cy="3657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3809880" cy="2609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04920" y="3429000"/>
            <a:ext cx="441936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The Agricultural Rev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000 – 10 000 years a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eed animals and cultivate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od surplus for firs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d permanent sett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division of labo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icrafts were created and tr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llages and towns r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” is now more specialized and more often done away from the fami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3835440" cy="5410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562560" cy="2652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5244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0:25:12Z</dcterms:created>
  <dc:creator>The Owner</dc:creator>
  <dc:description/>
  <dc:language>en-US</dc:language>
  <cp:lastModifiedBy>Customer</cp:lastModifiedBy>
  <dcterms:modified xsi:type="dcterms:W3CDTF">2010-11-22T19:06:33Z</dcterms:modified>
  <cp:revision>4</cp:revision>
  <dc:subject/>
  <dc:title>HSP 3M - Unit 3</dc:title>
</cp:coreProperties>
</file>